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967D-665F-45DF-814E-E1B52AB2C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2A46-1270-4B33-8AB4-30F69D1F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2F8A-B7EB-4E72-B29F-16F56C74F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0812-D708-4781-B286-4DD12EBB8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159A-A022-48BA-9345-3CF30CE8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6A76-DC2E-4205-8F32-FA0F8A88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E4CF-4564-4B67-8317-FFE21855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ACBB-6C84-4CE3-8FA4-6D66F261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C844-4F07-4039-90BC-F3EA582E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E07C-271D-47D3-B6CE-3BE306C9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4A38-3B62-4094-9838-A0B8AE30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88A1-241B-4B0A-B7E7-37AF26A1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7A25-61FD-4D79-831B-6132C3ECC0F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69AF-029C-4F4A-BEA0-F7952C63CF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f497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Group 8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3" name="Freeform 4"/>
            <p:cNvSpPr/>
            <p:nvPr/>
          </p:nvSpPr>
          <p:spPr>
            <a:xfrm>
              <a:off x="0" y="0"/>
              <a:ext cx="6132600" cy="6173640"/>
            </a:xfrm>
            <a:prstGeom prst="pie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365120" y="0"/>
              <a:ext cx="5388120" cy="5116680"/>
            </a:xfrm>
            <a:prstGeom prst="pie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3471840" y="0"/>
              <a:ext cx="4538520" cy="4057560"/>
            </a:xfrm>
            <a:prstGeom prst="pie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4849920" y="0"/>
              <a:ext cx="3628800" cy="3367080"/>
            </a:xfrm>
            <a:prstGeom prst="pie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E TRIUMPH OF WHITE MEN’S DEMOCRA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pter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hn Q. Adams-National Republic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1825-1829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mestic Polic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es in under a cloud of distrust because of the “corrupt bargain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moted “American System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es not replace cabinet members (many are Jacksonia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d-term election of 1826 gave Jackson forces control of Congress making Adams presidency a living he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gned into law “Tariff of Abomination of 1828” (main issue of presidenc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eign Polic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cause of what he did as a Secretary of State, he did not have many foreign 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gotiations with acquiring Texas territory with Mexico fai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DIVI7233194"/>
          <p:cNvPicPr/>
          <p:nvPr/>
        </p:nvPicPr>
        <p:blipFill>
          <a:blip r:embed="rId2"/>
          <a:stretch/>
        </p:blipFill>
        <p:spPr>
          <a:xfrm>
            <a:off x="1752480" y="609480"/>
            <a:ext cx="5594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lection of 183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DIVI7233TB1002"/>
          <p:cNvPicPr/>
          <p:nvPr/>
        </p:nvPicPr>
        <p:blipFill>
          <a:blip r:embed="rId2"/>
          <a:srcRect l="0" t="13228" r="0" b="0"/>
          <a:stretch/>
        </p:blipFill>
        <p:spPr>
          <a:xfrm>
            <a:off x="457200" y="2133720"/>
            <a:ext cx="822960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uss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do you have a stronger affiliation with, Illinois or the United St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drew Jackson-Democratic (1829-1837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mestic Poli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220968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Jacksonians won by portraying Jackson as authentic man of the people (military hero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sserts political power by Defending “spoils system” and Peggy Eaton affai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ndian Removal Act 1830/Trail of Tears 1838 (Worcester v. Georgia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Nullification Crisis toward the Tariff of Abominat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 Bank War/Veto becomes a symbolic defense of Jacksonian concept of democra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ongress censures Jackson for role in bank war (later expunged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eign Poli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eign affairs were not a prominent concern of Jackson's administ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xas declares Independence (1836) from Mexico but Jackson prudently declined to endorse American annexation of Texas or even to recognize the new republic without prior congressional appro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dian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DIVI7233198"/>
          <p:cNvPicPr/>
          <p:nvPr/>
        </p:nvPicPr>
        <p:blipFill>
          <a:blip r:embed="rId2"/>
          <a:stretch/>
        </p:blipFill>
        <p:spPr>
          <a:xfrm>
            <a:off x="1523880" y="1600200"/>
            <a:ext cx="59436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ain Sc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re are 50,000 of these throughout the year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arthquak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s country is the smallest in the world at only .02 miles wid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atican City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7% of Americans don't know the first 9 words of thi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merican anthem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h say can you see by the dawn's early light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tic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ost states adopted universal white male suffrage by the 1820s (political participation promoted by Jacksonian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ny appointed offices made electiv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hanges in the method of nominating and electing the presid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ucus for nomine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lectoral College changes (popular vot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rofessional politicians and statewide party organizations emerg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ew two-party system created (Whig v. Democrat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igs defended activist government in economics, the enforcement of “decency”, and supported the American System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mocrats opposed government regulation in economy and moral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conom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conomic gap widened between propertied and labor classes; this was overlooked because legal equality of all white men still radical by European standard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litical activity and debate around economic issues foreshadowed rise of parties based around economic program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bate over role of federal government in the econom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riffs-who did it effect negatively and who did it effect positive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tional Bank-who benefited from it (concentrated power in the hands of wealth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ographic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ces emerging between regions around the country (North v. South v. Wes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llification foreshadowed state sovereignty positions of the South in slavery debat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ue expansion out W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nd specul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ive Americ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ment of new states and territor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am 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galitarian expectations despite growing economic inequality (labor move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distinctive domestic servant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class distinctions in 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pular press was the source of information and opin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tists, Sculpture, Writers, appealed to an audience of broad citizenry of democracy, not refined el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t’s Weird???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ry time you lick a stamp, you're consuming 1/10 of a calori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ncient Egypt, Priests plucked every hair from their bodies, including their eyebrows and eyelash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verage human body contains enough fat to make seven bars of soa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gliding lizard getting ready to f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3" descr="405457.jpeg"/>
          <p:cNvPicPr/>
          <p:nvPr/>
        </p:nvPicPr>
        <p:blipFill>
          <a:blip r:embed="rId2"/>
          <a:srcRect l="-86372" t="0" r="-86372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crab that likes to blend into the be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3" descr="405453.jpeg"/>
          <p:cNvPicPr/>
          <p:nvPr/>
        </p:nvPicPr>
        <p:blipFill>
          <a:blip r:embed="rId2"/>
          <a:srcRect l="-40912" t="0" r="-40912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spider who likes to be a bul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3" descr="405454.jpeg"/>
          <p:cNvPicPr/>
          <p:nvPr/>
        </p:nvPicPr>
        <p:blipFill>
          <a:blip r:embed="rId2"/>
          <a:srcRect l="-18184" t="0" r="-18184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frog that likes to hide in the s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3" descr="405455.jpeg"/>
          <p:cNvPicPr/>
          <p:nvPr/>
        </p:nvPicPr>
        <p:blipFill>
          <a:blip r:embed="rId2"/>
          <a:srcRect l="-25144" t="0" r="-25144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bird among the lea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3" descr="405458.jpeg"/>
          <p:cNvPicPr/>
          <p:nvPr/>
        </p:nvPicPr>
        <p:blipFill>
          <a:blip r:embed="rId2"/>
          <a:srcRect l="-8359" t="0" r="-8359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ussion Qu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you recall a recent Politician whose personality played a major role in his/her popularity and what it was that the public found so appeal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lection of 182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DIVI7233TB1001"/>
          <p:cNvPicPr/>
          <p:nvPr/>
        </p:nvPicPr>
        <p:blipFill>
          <a:blip r:embed="rId2"/>
          <a:srcRect l="0" t="13805" r="0" b="0"/>
          <a:stretch/>
        </p:blipFill>
        <p:spPr>
          <a:xfrm>
            <a:off x="533520" y="2443320"/>
            <a:ext cx="807696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15:09:35Z</dcterms:created>
  <dc:creator>CMU</dc:creator>
  <dc:description/>
  <cp:keywords/>
  <dc:language>en-US</dc:language>
  <cp:lastModifiedBy>Buffalo Grive High School</cp:lastModifiedBy>
  <cp:lastPrinted>2009-09-06T19:32:19Z</cp:lastPrinted>
  <dcterms:modified xsi:type="dcterms:W3CDTF">2012-10-12T18:40:00Z</dcterms:modified>
  <cp:revision>49</cp:revision>
  <dc:subject/>
  <dc:title>CHAPTER 10 THE TRIUMPH OF WHITE MEN'S DEMOCRACY</dc:title>
</cp:coreProperties>
</file>